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369-8565-4DE0-B20A-500A52DF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008-5912-4A0C-A6E8-3FF1B33C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8D-79C0-4385-A065-6CCE140A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BF-CBE2-46DB-BC52-E5BD6D7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EFA-B31F-4AC5-9281-A6215F84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C9B-7C96-4001-878E-1A333E46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49E9-1F49-477A-A9DF-7694F47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9567-6C3E-4D87-BA97-B23C566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B07-3BCC-428A-A674-50A10A2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0E53-26E8-4D90-98F7-05B67AB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38A-D287-4BDF-8398-9021C5A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57B-4F81-4C81-ABEF-2ECF315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2C1-550B-42AE-99F1-8E943B9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63C-FCB7-4D4B-A598-F54B5C5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650-9953-4483-B4BF-ED81A67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CC1-ADB3-4FD3-AC75-D69BBF6B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9A5-8B62-4840-93ED-CCACA7C2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94D-D6F0-4A83-8A7F-E1F86A6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D72-2D60-48CA-A221-B7451735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E6E-9D3C-465D-BB07-0F2A0D3E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146-FFB1-418E-AFF3-29A2FD2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BCF-EBBE-4BFE-936B-B8D21A1F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DF2-B686-437B-A570-D4AC628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55D-C004-4067-A4E5-BD4AB8A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74C0-E3AD-47C3-963F-3C59D19BB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65B-F08C-41BD-810B-3653B0547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fvwp.uwosh.edu/teachingresources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42876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6 Traits of Writing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Ide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Organiz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Word Cho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Sentence Fluenc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Vo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Conven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2332080" cy="2136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586728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eated by: Jennifer Heidl-Knobloch &amp; Jody Dra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Sentence Fluency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Vary sentence beginning, structure, and lengt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complete sentenc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transitions (internal &amp; external) to promote cad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Voice</a:t>
            </a: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heart and soul of the writing, the magic, the wit, the feeling, the life and brea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44197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Voice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Write honestly and from the hea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Interact with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* without using YO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anguage that brings the topic to li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Care about top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expression to voice personalit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And lastly…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8288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Conventions</a:t>
            </a: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 of you may not enjoy the editing process, but without this step, the other 5 traits could be overshadowed by errors that distract the reader. This trait is essential to a polished composi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Conventions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Turn in a clean, edited, and polished final d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Reinforce the organization with good paragraph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correct punctuation, spelling, and gramm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written without effort is in general                     read without pl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muel Joh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rite to taste life twi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Anais 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83808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otations to Inspi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5257800"/>
            <a:ext cx="2266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Works Cited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ment.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thwest Regional Educational Laboratory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Jan. 2005. 6 July 2005. &lt;www.nwrel.org/assessment/scoring.php?odelay=3&amp;d=1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mar Cartoons.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ogle Image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July 2005. &lt;www.images.google.com/images?synum=10&amp;hl=en&amp;lr=&amp;q=grammar+cartoons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erts, Bethany. "Writing for Children Workshop: Writing Quotes.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Ju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5. &lt; http://www.bethanyroberts.com/writing_quotes.htm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ndel, Vicki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ating Writers Through 6-Trait Writing Assessment and Instructio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: Addison Wesley Longman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ele, Kimberly. “Ideas for Teaching Writing.” 23 June 2004. 6 July 2005. &lt;www.kimskorner4teachertalk.com/writing/menu.html.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rce for PowerPoi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fvwp.uwosh.edu/teachingresources/index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x Valley Writing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oll down to Six Trait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Six Traits of Writing (Power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dy Drake and Jennifer Heidl-Knobl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74674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   </a:t>
            </a:r>
            <a:br>
              <a:rPr sz="5000"/>
            </a:b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Ideas &amp; Content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s are the heart of the message, the content of the piece…all the details that enrich and develop the the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5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If you don’t care about what     you write about, your reader will be bored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2298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11280"/>
            <a:ext cx="76201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Ideas &amp; Content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rrow the topic to something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 fresh, original perspectiv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When possible, write from experi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important, interesting detai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not just common knowle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internal structure of a piece of writing, the thread of central meaning, the patter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6672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n inviting lead that hooks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ogical and effective order, structure, &amp; sequ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smooth transitions to emphasize main ide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place supporting details where they are most appropri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 conclusion that gives the reader a sense of resolution (clinche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52020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Word Choice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word choice clarifies and expands       ideas…moves and enlightens the read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ell me the moon is shining; show me the glint of light on broken gla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nton Chekh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2050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2020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Word Choice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words that create a mental picture for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powerful action verbs (vivid verb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specific nouns and adjectiv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anguage that is natural and not overd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Be concise (tighten sentence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words correctl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Avoid repetition, slang, and cliché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Sentence Fluency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fluency is the rhythm and flow of the langua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e the greatest pleasure of writing is not what it’s about, but the music the words make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Truman Capo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4905360" cy="1373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2:06:23Z</dcterms:created>
  <dc:creator>Jody Drake</dc:creator>
  <dc:description/>
  <dc:language>en-US</dc:language>
  <cp:lastModifiedBy>Jeanette Gordon</cp:lastModifiedBy>
  <dcterms:modified xsi:type="dcterms:W3CDTF">2007-12-27T19:27:42Z</dcterms:modified>
  <cp:revision>15</cp:revision>
  <dc:subject/>
  <dc:title>The 6 Traits of Writing</dc:title>
</cp:coreProperties>
</file>